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814-199E-411B-8940-79F5F084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D038-891A-488F-B0F9-109F2817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800-758C-4A27-AE2A-6997B593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E12-FCF7-4E2E-93F1-70CEDCDC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6A8-A09F-40ED-B4D4-28ECD2CA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4E79-3748-4AF2-8FDC-4BF6D163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E30-DFD5-46DF-B47D-BDC12FAF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A2B-BB84-4583-BF63-2E6D3EBC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F44-A694-4446-B7C3-ABF44A22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15B-769E-44C1-8639-ED867668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0C7-925A-4D01-9AD5-E7E9E9AA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2BE-5EC9-4741-AB73-09B617CBA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8A4-6218-4AF8-87E5-F3A316877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C400-6856-48DE-B1C0-ED683901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D16-9DFE-4184-9125-83D74FDA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6B1-4DC6-4574-92D5-88FF5E015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DDB-330B-496B-9456-D4789F47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93A-CCAB-4B7A-AC41-C1C7E9C2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34B-B4A4-4C1A-9166-28916D6C9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049-C945-4A6C-ABD3-D371ADD4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1F9-64F8-4B34-ABA1-262DB20B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2176-3EC4-4B9E-B1B0-C31C0351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481C-054E-44A8-A40E-77EEDEF2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D336-B0EA-41A7-BD16-CBDBF52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72BC-8348-4EBD-A9C0-607CEABA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A92D-DED0-4FDF-A50E-59E26965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9D6D-3553-4BB5-983B-C461788E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27BE-5471-490C-922E-4DA8B97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FC0E-646F-4027-8361-2049E4B7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AB87-6112-47A3-93A0-F7E8F87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58B0-51FA-48ED-8BEF-547D92D9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6B94-1DFE-4EB2-B984-940E056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3F1-E38F-466C-B951-F98B19C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8651-4ED7-471B-9781-536D7B2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729-A439-4DAF-8A87-6740A38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AF30-09D2-4956-BD19-97A0FA6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88E-5FCD-45E4-A476-82B988BC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7C64-524A-40CC-9B12-F90446C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0D6-3AE3-423F-8AE7-BB95F32D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C91F-9B14-41B0-B4B7-4AC0779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73C5-5D0E-4D26-937C-C6CA16EA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D4F4-BDD1-4580-BC22-2ECB7A7D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CEB4-6206-4483-B652-B6173214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2D11-8E15-4DD5-B1BE-0104E83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6EDA-C4E1-4215-9F9F-D423792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581E-8EE9-4B88-B8C8-85EDBCFB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F9B-7D97-4E12-B5B3-6FA558887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011-327D-46D6-80D9-99CCCF6CC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soft.com/catalist.html" TargetMode="External"/><Relationship Id="rId2" Type="http://schemas.openxmlformats.org/officeDocument/2006/relationships/hyperlink" Target="http://groups-beta.google.com/grphp?hl=en&amp;tab=wg&amp;q=" TargetMode="External"/><Relationship Id="rId3" Type="http://schemas.openxmlformats.org/officeDocument/2006/relationships/hyperlink" Target="http://groups.yahoo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schrockguide/eval.html" TargetMode="External"/><Relationship Id="rId2" Type="http://schemas.openxmlformats.org/officeDocument/2006/relationships/hyperlink" Target="http://www.library.cornell.edu/olinuris/ref/webcrit.html" TargetMode="External"/><Relationship Id="rId3" Type="http://schemas.openxmlformats.org/officeDocument/2006/relationships/hyperlink" Target="http://www.webs.uidaho.edu/info_literacy/" TargetMode="External"/><Relationship Id="rId4" Type="http://schemas.openxmlformats.org/officeDocument/2006/relationships/hyperlink" Target="http://www.plagiarism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ogpil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ernet 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83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685800"/>
            <a:ext cx="69339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Boolean Operators to fine tune your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ain forest or rainforest      (either/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dog or canine                      (either/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ussia not Soviet Un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omen and Middle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e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lsoft.com/catali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groups or Us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groups-beta.google.com/grphp?hl=en&amp;tab=wg&amp;q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groups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Search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hrock’s Guide for Edu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school.discovery.com/schrockguide/ev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Criteria for Evaluating Web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library.cornell.edu/olinuris/ref/webcri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webs.uidaho.edu/info_literac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iaris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plagiarism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computers that are linked together to share information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Networks (Shared Fol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(Local:School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 (Wide) ( World Wide Web or an entire school distri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of knowledge and skills through mediated information a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: K-12 /Home Schooling/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/Govern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ey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is physically separated in time and or distance from means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ethods include two-wa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istanc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ence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eacher and student are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wo –way communication via snail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and televis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 College:WS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ynonymous with online learning and web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Pho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Hig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; Blackboard.com Web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: 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s of assignments, quizzes ,link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can be up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arn http://www.iear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neither encourages nor discourages the use of distance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lack of a physical class unit which contributes to a high drop ou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Design and Delive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problems must be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 of discipline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learners lack physical classroom suppor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5800" y="10666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3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213360" cy="3176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Internet Sear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Student Writing Publishing student writing encourages the reluctant writer, strengthens kids' self-confidence, rewards interest, and promotes a positive attitude toward literature. If your school is like most, however, you lack an easy and effective way of publishing your students' work. Now, help is as close as a mouse click away! Today, Education World writer Glori Chaika explores opportunities to publish student writing --and teacher writing-- on the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ALS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world's largest on-line classroom community connecting hundreds of classrooms with thousands of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inal project which will be a technology enhanced lesson must utilize distance learning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1143000"/>
            <a:ext cx="73152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ubject Direct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arch En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71600" y="914400"/>
            <a:ext cx="77724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ject Gui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ly arranged subjec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ah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arch Engin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66720" y="1120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685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earch engines do a keyword search against a datab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335268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database               Frequency of 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apability              Design and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080" y="2514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 influence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685800"/>
            <a:ext cx="754380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asearch Sites or Metacrawl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 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gp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cra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cra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Dog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hoo Babelfish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m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09480" y="3808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Phr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1371600"/>
            <a:ext cx="7696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quotes around words you wish to keep   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educ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Capital letters for proper names to get fewer h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vs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14400" y="685800"/>
            <a:ext cx="71629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both dolphins and porpo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a a directory search engine like Yahoo first to find related topics,names,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Then use search a keyword database like AltaVista for specific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4:06:30Z</dcterms:created>
  <dc:creator>Cindy</dc:creator>
  <dc:description/>
  <dc:language>en-US</dc:language>
  <cp:lastModifiedBy>Cindy DiDonato</cp:lastModifiedBy>
  <dcterms:modified xsi:type="dcterms:W3CDTF">2010-02-28T23:53:31Z</dcterms:modified>
  <cp:revision>32</cp:revision>
  <dc:subject/>
  <dc:title>Internet I</dc:title>
</cp:coreProperties>
</file>